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C320-1905-4F39-9B6B-ED5DB3A5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42AF-0BC5-4549-A362-02D3D286B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B384-E30D-44AE-A327-3A4AC26ED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2E59-1D81-4FF9-998E-8FC002B6F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9EF2-9E96-4D0A-A6EB-5B7D04DEE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ED4C-8E5C-43AF-A9D3-34FCC046D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34E1-991E-4271-AFC0-F2E8D91B6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21FD-BDDC-4AB9-81DB-EE252BA1CA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108E-C82A-4A8E-8175-C75ED6B3A0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28A2-4683-4EF6-838A-C7439B05C3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F449-3867-4EA5-8075-FA74D18E89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E0514-7CBC-4C3E-8FAA-8AA930C658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2C3E-8974-4C25-BB0E-56AC029B38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BD76-0DC3-464E-BD30-DEAE12A9E9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6BDE-5A34-44F4-BAB5-4958663838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3CB3-B74A-4633-9D94-4F76FE7126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0E38-AD58-4D6A-9E57-B9EE798DB3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D45D-88FA-46C9-9C73-D5BA2765EE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00F8-6153-4CD7-959C-D8DD194FEA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2195-0965-480E-BE1C-63A3283E23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C2AF-D5BE-4059-B2A6-60C9BF4ED3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1E86-AC6D-4201-BB52-4CC57941D0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681F-9E36-42A8-9A27-B22D2B8068D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040C-2F71-414B-B56F-06D1FEE89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0453-B03A-47C7-AE19-9FB9A4609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0BD1-F0EC-4248-84D4-537CF6DD4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43E0-189B-410B-8C25-0CBA16FE09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619A-8339-46EA-A5D1-F2A707D192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0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ey challenges in smallholder cereal-legume-livestock systems: Mal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basket of Mali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llet &amp; Sorghum – 37%  of national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ze – 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tton – 95% (Koutiala is cotton capital of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 influence of CMDT on Farming systems in Koutiala and Bougouni (inputs, services, promotion of animal traction for cotton produ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nsifying systems in terms of use of input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rief background on project region - Sikass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Predominance of young population with children almost 20% of the population and about 75 % below 30 years in some “commune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nutrition of children under 5 yea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labour for farming because young people are highly mobile with tendency to move to urban centres (rural exodu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cio-economic &amp; Institution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21456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Crop farming and livestock are the main sources of household income in Koutiala and Bougouni with cotton the leading sour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44280" indent="-214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addition of agricultural products particularly cere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4280" indent="-214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ulnerability to market shocks due to heavy dependence on revenue from co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4280" indent="-214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ersification to reduce dependence on co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4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cio-economic &amp; Institution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685800" y="2438280"/>
          <a:ext cx="7854840" cy="185436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ric.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utiala (% househol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ugouni (% househol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rganic fertil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tic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t 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S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62080" y="1295280"/>
            <a:ext cx="8772480" cy="1447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685800" y="4343400"/>
            <a:ext cx="79246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agric. inputs for crops other than cotton  and access to financial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farmers’ associations and private input suppliers to reduce dominance of CM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d systems including planting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Transhumance is important in both locations particularly for cattle with presence of herders from the Sah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64440" indent="-21924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competition over pastures and water leading to farmer-herder confli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64440" indent="-21924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the capacity of local institutions in conflict management, and in documentation and enforcement of local 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6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cio-economic &amp; Institution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Major constraints to crop production in the study sites are insufficient agricultural inputs, unfavourable climatic condition and soil degrad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-2124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soil &amp; water management e.g. increasing soil organic matter , nutrient &amp; water use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-2124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roductivity for household food security via improved varieties and agronomic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-2124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harvest management to reduce l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iophysic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1918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Major constraints to livestock production in the study sites are feed scarcity, diseases and low genetic potential of local bree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1918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-1918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dging the feed gap through food-feed crop, fodder production including shrubs, crop residue management, strategic supple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-1918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ing traction animals in good body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-1918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veterinary services, improved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-1918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grading local br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iophysic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7:48:16Z</dcterms:created>
  <dc:creator>IITA</dc:creator>
  <dc:description/>
  <dc:language>en-US</dc:language>
  <cp:lastModifiedBy>LeBorgne, Ewen (ILRI)</cp:lastModifiedBy>
  <cp:lastPrinted>2011-10-06T11:45:23Z</cp:lastPrinted>
  <dcterms:modified xsi:type="dcterms:W3CDTF">2012-10-26T14:44:36Z</dcterms:modified>
  <cp:revision>18</cp:revision>
  <dc:subject/>
  <dc:title>Slide 1</dc:title>
</cp:coreProperties>
</file>